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DF1-4AF5-4C8F-9011-9147A3A7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1AF-EDC5-4439-8CC8-4CD175D3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45E-D70C-4151-889D-9DD3848B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D59-DBDE-4355-8FE6-CB354A0D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6FE65-5A17-4B9C-ACFC-07D84795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96A92-71C7-4D6D-8987-C57F48CF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9E6B5-A60C-49D2-A004-7CC10B50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C2332-BD35-4A28-9A59-21E64CD2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9EF68-FE3B-47EE-89A1-1661B176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DF69F-2E3D-429A-88A7-630DFB9D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89765-57DB-47F6-AFA7-F0E63569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B1F-28D2-46D4-B5A2-264C328E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3A069-7FFE-4DC8-8522-2B8CF2D5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4E8E5-508E-4264-89E4-E090E9DC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3ADBE-7F74-4EC2-8730-D5C84261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B7032-46A3-4CFB-B80C-1B822A80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8B959-A81A-4AB3-B512-9CBF5B49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86E-3AB9-41FA-ACCB-15360210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5AF-2AFD-46AB-9C37-1786592E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FC1-6A55-40D8-8A41-79857EDB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8C3-66A9-4C21-A956-9CE24A57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08C-ACF5-4C88-A57D-3F3E7FD6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F0A-1C75-4199-89D6-24F6B46E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40B-7E7E-485E-910C-5AFCF1CD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5A22-3823-482E-81B1-39382775F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1238-4AD2-4C31-88F2-BEEA369377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utah.shtml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nchantedlearning.com/usa/states/utah/" TargetMode="External"/><Relationship Id="rId4" Type="http://schemas.openxmlformats.org/officeDocument/2006/relationships/hyperlink" Target="http://www.enchantedlearning.com/usa/flags/utah/utahflag.shtml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enchantedlearning.com/usa/states/utah/" TargetMode="External"/><Relationship Id="rId7" Type="http://schemas.openxmlformats.org/officeDocument/2006/relationships/hyperlink" Target="http://www.enchantedlearning.com/usa/states/utah/" TargetMode="External"/><Relationship Id="rId8" Type="http://schemas.openxmlformats.org/officeDocument/2006/relationships/hyperlink" Target="http://www.enchantedlearning.com/usa/states/utah/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324480" y="4800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724280"/>
            <a:ext cx="220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ly Papi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17/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00200" y="2209680"/>
            <a:ext cx="5105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Uta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49360" cy="533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120" y="152280"/>
            <a:ext cx="4647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Song: Fifty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ennsylvan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2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11, www.fiftystat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: Salt Lake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: 2,469,5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ed the Union: January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1896 (4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o: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kname: The Beehive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er: Sego L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: Common American G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: Utah, This is the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ing of Name: From the Ute Indians, meaning “People of the Mountain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219320"/>
            <a:ext cx="3124440" cy="3429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3600" y="4952880"/>
            <a:ext cx="3200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a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ober 18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nchantedlearning.com/usa/states/utah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685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tate map of Uta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447920"/>
            <a:ext cx="2619360" cy="193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3880" y="3505320"/>
            <a:ext cx="23623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a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18th, 2011,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www.enchantedlearning.com/usa/states/utah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Utah’s state fl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0" r="0" b="8181"/>
          <a:stretch/>
        </p:blipFill>
        <p:spPr>
          <a:xfrm>
            <a:off x="762120" y="1676520"/>
            <a:ext cx="2514600" cy="20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3733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809880"/>
            <a:ext cx="2971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a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18th, 2011, http://www.enchantedlearning.com/usa/states/utah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094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Utah’s state bird, the Common American Gu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Utah: Map and State Flag"/>
          <p:cNvPicPr/>
          <p:nvPr/>
        </p:nvPicPr>
        <p:blipFill>
          <a:blip r:embed="rId2"/>
          <a:srcRect l="0" t="34555" r="-1339" b="0"/>
          <a:stretch/>
        </p:blipFill>
        <p:spPr>
          <a:xfrm>
            <a:off x="5715000" y="2209680"/>
            <a:ext cx="213372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638680" y="457200"/>
            <a:ext cx="2971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: Uta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18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ensguide.gpo.gov/3-5/state/utah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5334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 outline of the state of Uta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All images Copyright © 1997 - 2000 WriteLine. All Rights Reserved. Temple Square"/>
          <p:cNvPicPr/>
          <p:nvPr/>
        </p:nvPicPr>
        <p:blipFill>
          <a:blip r:embed="rId1"/>
          <a:stretch/>
        </p:blipFill>
        <p:spPr>
          <a:xfrm>
            <a:off x="2438280" y="304920"/>
            <a:ext cx="6248520" cy="416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 rot="10800000">
            <a:off x="303120" y="1218600"/>
            <a:ext cx="244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Mor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e in Uta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464832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A. Postcard Tour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emple Squ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2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11, http://www.postcardsfrom.com/t1/981109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All images Copyright © 1997 - 2000 WriteLine. All Rights Reserved. Turret Arch"/>
          <p:cNvPicPr/>
          <p:nvPr/>
        </p:nvPicPr>
        <p:blipFill>
          <a:blip r:embed="rId1"/>
          <a:stretch/>
        </p:blipFill>
        <p:spPr>
          <a:xfrm>
            <a:off x="4038480" y="609480"/>
            <a:ext cx="5105520" cy="340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" y="1371600"/>
            <a:ext cx="327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A. Postcard Tour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rches National Par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2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11, http://www.postcardsfrom.com/t1/98111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Arches National Park in Uta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All images Copyright © 1997 - 2000 WriteLine. All Rights Reserved. Utah capitol"/>
          <p:cNvPicPr/>
          <p:nvPr/>
        </p:nvPicPr>
        <p:blipFill>
          <a:blip r:embed="rId1"/>
          <a:stretch/>
        </p:blipFill>
        <p:spPr>
          <a:xfrm>
            <a:off x="304920" y="990720"/>
            <a:ext cx="4419360" cy="2946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441972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Utah’s State Capitol building, located in Salt Lake 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4572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2286000"/>
            <a:ext cx="38862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A. Postcard Tour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alt Lake City 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2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11, http://www.postcardsfrom.com/t1/981110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2Z</dcterms:created>
  <dc:creator>install</dc:creator>
  <dc:description/>
  <dc:language>en-US</dc:language>
  <cp:lastModifiedBy>install</cp:lastModifiedBy>
  <dcterms:modified xsi:type="dcterms:W3CDTF">2011-10-27T13:39:09Z</dcterms:modified>
  <cp:revision>10</cp:revision>
  <dc:subject/>
  <dc:title>Slide 1</dc:title>
</cp:coreProperties>
</file>